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22A8-850C-4944-9D75-02CCC7DB3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7187-EDD5-46A0-8FA6-7C414CFC1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67B1-E3D0-40F5-ACC4-1EE8A70B5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1D7-856F-48EC-B914-6F2A8709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5B70-551A-48EA-BB56-7847B6E1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C4F-3AD2-4C58-BDD6-7D732AC0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63C6-0B14-44D8-9B9B-4FA3C842E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9CB0-78C7-4296-902D-935A4215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BFB4-9DB8-4391-9C85-AA0FE3046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4A56-40B2-4281-8EAC-9A1E1BD2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7FA3-4BA7-4449-BCB4-CF6C4397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16EA-F454-4E4F-B234-B93AC2CC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06EDD-F2E1-4E62-B8C3-4BFD3AE79C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unting Co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600200" y="1219320"/>
            <a:ext cx="7086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I count my pennies, I count by one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2,3,4, 5 and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3T03:25:51Z</dcterms:created>
  <dc:creator>Patricia White</dc:creator>
  <dc:description/>
  <dc:language>en-US</dc:language>
  <cp:lastModifiedBy>Patricia White</cp:lastModifiedBy>
  <dcterms:modified xsi:type="dcterms:W3CDTF">2010-01-13T03:29:58Z</dcterms:modified>
  <cp:revision>1</cp:revision>
  <dc:subject/>
  <dc:title>Counting Coins</dc:title>
</cp:coreProperties>
</file>